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675-D1FA-433B-847F-60EDC666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51D-ECCD-431F-AED4-B0A9E12C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500-A71B-4D88-8A25-AC9F1965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EAC-0FEC-4D51-86C5-FA801BEE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652-1711-47CF-900C-AE7CC712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C5B-2578-4D5A-B3C3-BEC7DB2B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FC1-8C99-4D1B-AE72-964258F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6CB-AC63-4765-9E12-39A9D4BE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EE2-BC74-4308-858E-F238E038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8C1-49BD-4774-A3B9-D94277C6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19E-AE2C-45F0-812B-902EB766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559-5E73-4F40-9964-77FA85A5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FE29-6005-4F5D-AC72-08D694483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9154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cc00"/>
                </a:solidFill>
                <a:uFillTx/>
                <a:latin typeface="Arial"/>
              </a:rPr>
              <a:t>Subject / Verb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  Emily and Greg (comes,  come) to my house every Friday for lu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  There (is,  are) time to watch the mov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  My friends who are in the band (wants,  want) me to play a musical instr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  My father or my brothers (is,  are) coming with me to the ball g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  Everyone (needs, need) time to rel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  That bag of oranges (looks, look) fre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  The lacrosse team (hopes, hope) to win the tournament nex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  Your trousers (needs, need) to be clea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  Some of the books on the shelf (is, are) du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  Even though the students like the class, a few (thinks, think) that it is too complic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04920"/>
            <a:ext cx="8305920" cy="63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correct verb in each sentence below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  Mumps (is, are) not common among ad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  Viruses from third world countries (is, are) a major conc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  Most of the sand (is, are)  wet from the high 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  Either the two kittens or the puppy (sits, sit) in my lap while I watch tele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  A subject of great interest (is, are) rainfo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 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nsel and Gret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is, are) a famous children's 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  The team members (is, are) arguing over the defense tac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  The economics of the trip (was, were) plea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  Why (is, are) your parents going to Africa for a va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  The mayor and the governor (hopes, hope) that the bill will soon become a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20:39:30Z</dcterms:created>
  <dc:creator>Cathy Carpenter</dc:creator>
  <dc:description/>
  <dc:language>en-US</dc:language>
  <cp:lastModifiedBy>Cathy Carpenter</cp:lastModifiedBy>
  <dcterms:modified xsi:type="dcterms:W3CDTF">2007-07-30T20:51:06Z</dcterms:modified>
  <cp:revision>3</cp:revision>
  <dc:subject/>
  <dc:title>Slide 1</dc:title>
</cp:coreProperties>
</file>